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3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18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15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1.jpeg" ContentType="image/jpeg"/>
  <Override PartName="/ppt/media/image8.png" ContentType="image/png"/>
  <Override PartName="/ppt/media/image30.jpeg" ContentType="image/jpeg"/>
  <Override PartName="/ppt/media/image31.png" ContentType="image/png"/>
  <Override PartName="/ppt/media/image6.png" ContentType="image/png"/>
  <Override PartName="/ppt/media/image29.png" ContentType="image/png"/>
  <Override PartName="/ppt/media/image28.jpeg" ContentType="image/jpeg"/>
  <Override PartName="/ppt/media/image13.png" ContentType="image/png"/>
  <Override PartName="/ppt/media/image34.jpeg" ContentType="image/jpeg"/>
  <Override PartName="/ppt/media/image37.png" ContentType="image/png"/>
  <Override PartName="/ppt/media/image11.png" ContentType="image/png"/>
  <Override PartName="/ppt/media/image5.jpeg" ContentType="image/jpeg"/>
  <Override PartName="/ppt/media/image35.png" ContentType="image/png"/>
  <Override PartName="/ppt/media/image43.jpeg" ContentType="image/jpeg"/>
  <Override PartName="/ppt/media/image14.jpeg" ContentType="image/jpeg"/>
  <Override PartName="/ppt/media/image41.jpeg" ContentType="image/jpeg"/>
  <Override PartName="/ppt/media/image36.jpeg" ContentType="image/jpeg"/>
  <Override PartName="/ppt/media/image40.png" ContentType="image/png"/>
  <Override PartName="/ppt/media/image7.jpeg" ContentType="image/jpeg"/>
  <Override PartName="/ppt/media/image38.jpeg" ContentType="image/jpeg"/>
  <Override PartName="/ppt/media/image10.jpeg" ContentType="image/jpeg"/>
  <Override PartName="/ppt/media/image26.jpeg" ContentType="image/jpeg"/>
  <Override PartName="/ppt/media/image42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508E9-1B7D-493E-A21E-936B01DC086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9B5A7-3A82-4568-9C00-B734EECEF8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522C3-322B-4CBC-A03C-91D9D22292C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82D90-2AE7-4729-BE74-4CE26BEB69A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65E36-AE7B-4EB7-B8C2-638FF37D663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9489-3960-4555-9FC2-CDC5271A4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8E78-F5A2-4F70-B8D1-6D7FB0DEE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42A8-72EC-461A-855F-92261480E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553F-481A-47A5-8652-ACE0CA835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778F5-1247-48EC-B555-DA394EA4E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A8632-F00E-4A01-BE6A-63C7E8B33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AEA36-DC57-4FDB-A145-6DDF006AE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A91D3-098E-4642-A65F-CE73A7595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C211A-5886-4CA2-B2E0-F4BDE22EA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BE600-9834-49C3-9D34-427F99293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74BB9-64A7-404C-8FD4-18440583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27B7-F299-4130-B4F9-D00FA8139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E1917-5299-4543-A5A4-EEA269E2C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1B6BD-BBCA-4468-82D1-296BE64E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671EC-E2E6-4EC8-BF7F-87BB5AD98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EEC21-C026-4161-83E4-05AB3F410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AD6AF-086A-4598-BDE3-40CC79264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315F-C7AF-45A4-B9F4-4B08DF09B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7CB5-F6BE-4E82-96AE-F12BFF5BD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73FB-5B04-4090-A699-12AB72B6F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67A4-2E3A-41E6-A40D-CA40AE318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262A-C122-4108-B84A-AF24CC21A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9037-3331-493A-B613-1E8DECC3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3E1E-17F5-4AE9-B05B-3BB016093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ADB8E-A666-462E-900C-EC2B0234F24D}" type="datetime">
              <a:rPr b="0" lang="en-US" sz="1200" spc="-1" strike="noStrike">
                <a:solidFill>
                  <a:srgbClr val="bcbcbc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B3360-44F4-41F9-9A27-DA50736C5160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3A699-EC1C-48AB-9434-4A9BFC5F8097}" type="datetime">
              <a:rPr b="0" lang="en-US" sz="1200" spc="-1" strike="noStrike">
                <a:solidFill>
                  <a:srgbClr val="bcbcbc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BE46A-6D77-44B5-8D0D-777564213DA6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18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image" Target="../media/image38.jpe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2"/>
          <a:stretch/>
        </p:blipFill>
        <p:spPr>
          <a:xfrm>
            <a:off x="1822320" y="603360"/>
            <a:ext cx="5499360" cy="585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Placeholder 4" descr="colonies.gif"/>
          <p:cNvPicPr/>
          <p:nvPr/>
        </p:nvPicPr>
        <p:blipFill>
          <a:blip r:embed="rId3"/>
          <a:stretch/>
        </p:blipFill>
        <p:spPr>
          <a:xfrm>
            <a:off x="1762200" y="1792440"/>
            <a:ext cx="5937120" cy="43891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828800" y="1166400"/>
            <a:ext cx="5486400" cy="530280"/>
          </a:xfrm>
          <a:prstGeom prst="rect">
            <a:avLst/>
          </a:prstGeom>
          <a:noFill/>
          <a:ln w="0">
            <a:noFill/>
          </a:ln>
        </p:spPr>
        <p:txBody>
          <a:bodyPr lIns="45720" rIns="45720" bIns="46800" anchor="t">
            <a:norm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Book Antiqua"/>
              </a:rPr>
              <a:t>Remember the other colonizing powers: Spain, Swedes, France, Netherlands</a:t>
            </a: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59840" cy="1158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Powhatan’s Confederacy and the early settlers briefly coexisted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John Rolfe, the “Father of Tobacco” had married Pocahonta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First Anglo- Powhatan War (1614)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Second Anglo-Powhatan War (1646) decimates Natives in area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2" name="Picture 5" descr="250px-Powhatan_john_smith_map.jpg"/>
          <p:cNvPicPr/>
          <p:nvPr/>
        </p:nvPicPr>
        <p:blipFill>
          <a:blip r:embed="rId3"/>
          <a:stretch/>
        </p:blipFill>
        <p:spPr>
          <a:xfrm>
            <a:off x="3733920" y="4267080"/>
            <a:ext cx="1981080" cy="23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Rolfe’s sweet tobacco was sought as a cash crop by Europe.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5" name="Content Placeholder 4" descr="tob.jpg"/>
          <p:cNvPicPr/>
          <p:nvPr/>
        </p:nvPicPr>
        <p:blipFill>
          <a:blip r:embed="rId3"/>
          <a:stretch/>
        </p:blipFill>
        <p:spPr>
          <a:xfrm>
            <a:off x="2209680" y="3581280"/>
            <a:ext cx="1828800" cy="2320920"/>
          </a:xfrm>
          <a:prstGeom prst="rect">
            <a:avLst/>
          </a:prstGeom>
          <a:ln w="0">
            <a:noFill/>
          </a:ln>
        </p:spPr>
      </p:pic>
      <p:sp>
        <p:nvSpPr>
          <p:cNvPr id="126" name="TextBox 10"/>
          <p:cNvSpPr/>
          <p:nvPr/>
        </p:nvSpPr>
        <p:spPr>
          <a:xfrm>
            <a:off x="5334120" y="1219320"/>
            <a:ext cx="2971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First African Americans arrived in 1619  and quickly became slaves. Barbados slave cod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11" descr="slavery2tradeimage.jpg"/>
          <p:cNvPicPr/>
          <p:nvPr/>
        </p:nvPicPr>
        <p:blipFill>
          <a:blip r:embed="rId4"/>
          <a:stretch/>
        </p:blipFill>
        <p:spPr>
          <a:xfrm>
            <a:off x="4572000" y="3962520"/>
            <a:ext cx="38098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Title 1" descr=""/>
          <p:cNvPicPr/>
          <p:nvPr/>
        </p:nvPicPr>
        <p:blipFill>
          <a:blip r:embed="rId2"/>
          <a:stretch/>
        </p:blipFill>
        <p:spPr>
          <a:xfrm>
            <a:off x="450720" y="231840"/>
            <a:ext cx="8242560" cy="13158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The Virginia House of Burgesses set America on a rule towards self-rule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James I called it a “seminary of sedition”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0" name="Content Placeholder 4" descr="burgesses.jpg"/>
          <p:cNvPicPr/>
          <p:nvPr/>
        </p:nvPicPr>
        <p:blipFill>
          <a:blip r:embed="rId3"/>
          <a:stretch/>
        </p:blipFill>
        <p:spPr>
          <a:xfrm>
            <a:off x="5105520" y="1828800"/>
            <a:ext cx="36576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Founded by Lord Baltimore as a safe haven for persecuted Catholics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Feudal estates granted by Lord Baltimore to close associate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Tobacco was cash crop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3" name="Content Placeholder 4" descr="LordBaltimore.jpg"/>
          <p:cNvPicPr/>
          <p:nvPr/>
        </p:nvPicPr>
        <p:blipFill>
          <a:blip r:embed="rId3"/>
          <a:srcRect l="-845" t="0" r="-845" b="0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Guaranteed religious toleration to all Christians but decreed death penalty to those not believe in divinity of Christ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6" name="Picture 3" descr="act of t.jpg"/>
          <p:cNvPicPr/>
          <p:nvPr/>
        </p:nvPicPr>
        <p:blipFill>
          <a:blip r:embed="rId3"/>
          <a:stretch/>
        </p:blipFill>
        <p:spPr>
          <a:xfrm>
            <a:off x="2057400" y="3048120"/>
            <a:ext cx="617220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Title 3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By 1600s Britain was successfully colonizing the West Indie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Sugar was main crop grown by African slaves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Slave Codes established legal status of slaves / master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9" name="Content Placeholder 6" descr="SlavePunishment-Front.jpg"/>
          <p:cNvPicPr/>
          <p:nvPr/>
        </p:nvPicPr>
        <p:blipFill>
          <a:blip r:embed="rId3"/>
          <a:stretch/>
        </p:blipFill>
        <p:spPr>
          <a:xfrm>
            <a:off x="5105520" y="1295280"/>
            <a:ext cx="3657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41800" indent="-40680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Back in England a brief Civil War had dispatched Charles I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Oliver Cromwell had ruled for 10 years but the Restoration had returned Charles II to the throne of England. Colonization could begin again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2" name="Content Placeholder 4" descr="Oliver_Cromwell2.jpg"/>
          <p:cNvPicPr/>
          <p:nvPr/>
        </p:nvPicPr>
        <p:blipFill>
          <a:blip r:embed="rId3"/>
          <a:stretch/>
        </p:blipFill>
        <p:spPr>
          <a:xfrm>
            <a:off x="5283360" y="1633680"/>
            <a:ext cx="3644640" cy="2862000"/>
          </a:xfrm>
          <a:prstGeom prst="rect">
            <a:avLst/>
          </a:prstGeom>
          <a:ln w="0">
            <a:noFill/>
          </a:ln>
        </p:spPr>
      </p:pic>
      <p:sp>
        <p:nvSpPr>
          <p:cNvPr id="143" name="TextBox 5"/>
          <p:cNvSpPr/>
          <p:nvPr/>
        </p:nvSpPr>
        <p:spPr>
          <a:xfrm>
            <a:off x="5638680" y="4800600"/>
            <a:ext cx="297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Oliver Cromw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Named for Charles II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Close economic ties to West Indies because of port of Charleston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Rice a principle crop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Lots of slaves imported / slave code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6" name="Content Placeholder 4" descr="charleston harbor.jpg"/>
          <p:cNvPicPr/>
          <p:nvPr/>
        </p:nvPicPr>
        <p:blipFill>
          <a:blip r:embed="rId3"/>
          <a:stretch/>
        </p:blipFill>
        <p:spPr>
          <a:xfrm>
            <a:off x="5181480" y="1447920"/>
            <a:ext cx="36576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Squatters from Virginia began to enter the Carolina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Upset established aristocratic Charleston planter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North Carolinians” were more independent minded than the planter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9" name="Content Placeholder 4" descr="nc.jpg"/>
          <p:cNvPicPr/>
          <p:nvPr/>
        </p:nvPicPr>
        <p:blipFill>
          <a:blip r:embed="rId3"/>
          <a:srcRect l="0" t="-85701" r="0" b="-85701"/>
          <a:stretch/>
        </p:blipFill>
        <p:spPr>
          <a:xfrm>
            <a:off x="4724280" y="3200400"/>
            <a:ext cx="4038840" cy="45259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lowCountryColonies.gif"/>
          <p:cNvPicPr/>
          <p:nvPr/>
        </p:nvPicPr>
        <p:blipFill>
          <a:blip r:embed="rId4"/>
          <a:stretch/>
        </p:blipFill>
        <p:spPr>
          <a:xfrm>
            <a:off x="5181480" y="1523880"/>
            <a:ext cx="36576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Georgia was intended to be a buffer colony between Spanish Florida , French Louisiana and Indian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ebtors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amed for George II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nded by James Oglethrop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Lots of missionaries in Savannah ( John Wesley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53" name="Content Placeholder 4" descr="LordBaltimore.jpg"/>
          <p:cNvPicPr/>
          <p:nvPr/>
        </p:nvPicPr>
        <p:blipFill>
          <a:blip r:embed="rId3"/>
          <a:stretch/>
        </p:blipFill>
        <p:spPr>
          <a:xfrm>
            <a:off x="5581800" y="1371600"/>
            <a:ext cx="304776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Title 1" descr=""/>
          <p:cNvPicPr/>
          <p:nvPr/>
        </p:nvPicPr>
        <p:blipFill>
          <a:blip r:embed="rId2"/>
          <a:stretch/>
        </p:blipFill>
        <p:spPr>
          <a:xfrm>
            <a:off x="450720" y="231840"/>
            <a:ext cx="8242560" cy="13158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King Henry VIII breaks with Roman Catholic Church and forms Anglican Church. His daughter, Protest Elizabeth, begins England’s Golden Age and a rivalry with Catholic Spain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4" name="Picture 3" descr="Elizabeth1England[1].JPG"/>
          <p:cNvPicPr/>
          <p:nvPr/>
        </p:nvPicPr>
        <p:blipFill>
          <a:blip r:embed="rId3"/>
          <a:stretch/>
        </p:blipFill>
        <p:spPr>
          <a:xfrm>
            <a:off x="3200400" y="3471840"/>
            <a:ext cx="281952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Title 1" descr=""/>
          <p:cNvPicPr/>
          <p:nvPr/>
        </p:nvPicPr>
        <p:blipFill>
          <a:blip r:embed="rId2"/>
          <a:stretch/>
        </p:blipFill>
        <p:spPr>
          <a:xfrm>
            <a:off x="450720" y="231840"/>
            <a:ext cx="8242560" cy="13158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Slavery found in all colonie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Bustling seaport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Large plantation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Because of travel issues few school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Major crops were rice / tobacco and indigo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Some form of religious toleration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56" name="Content Placeholder 4" descr="300px-Map_of_territorial_growth_1775.jpg"/>
          <p:cNvPicPr/>
          <p:nvPr/>
        </p:nvPicPr>
        <p:blipFill>
          <a:blip r:embed="rId3"/>
          <a:stretch/>
        </p:blipFill>
        <p:spPr>
          <a:xfrm>
            <a:off x="4878360" y="1828800"/>
            <a:ext cx="426564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AP PARTS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25600" indent="-39456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Analyze each of the documents in your Jamestown packet using AP PARTS: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Author 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- Who created the source? What is their point of view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* 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Place and Time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 -Where and when was the source produced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* 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Prior Knowledge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 - What do you already know that would further your understanding of this sources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* 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Audience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 - For whom was the source created? Does this affect the reliability of the source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* 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Reason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 - Why was this source produced at the time is was produced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* 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The Main Idea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 - What is the source trying to convey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* 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Significance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 - Why is this source important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Title 3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Elizabeth sends English seadogs to pirate and plunder Spanish ships. Sir Francis Drake also becomes first English seadog  that would circumnavigate the globe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7" name="Content Placeholder 6" descr="sir-francis-drake-6.jpg"/>
          <p:cNvPicPr/>
          <p:nvPr/>
        </p:nvPicPr>
        <p:blipFill>
          <a:blip r:embed="rId3"/>
          <a:srcRect l="0" t="-21828" r="0" b="-21828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itle 4" descr=""/>
          <p:cNvPicPr/>
          <p:nvPr/>
        </p:nvPicPr>
        <p:blipFill>
          <a:blip r:embed="rId2"/>
          <a:stretch/>
        </p:blipFill>
        <p:spPr>
          <a:xfrm>
            <a:off x="450720" y="176040"/>
            <a:ext cx="8242560" cy="14446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6840" y="1535040"/>
            <a:ext cx="404028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633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IR HUMPHREY GILBERT FAILS IN  NEWFOUNDLAND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44720" y="1535040"/>
            <a:ext cx="404172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6336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IR WALTER RALEIGH AND THE LOST COLONY (ROANOKE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1" name="Content Placeholder 10" descr="humphrey gilbert.gif"/>
          <p:cNvPicPr/>
          <p:nvPr/>
        </p:nvPicPr>
        <p:blipFill>
          <a:blip r:embed="rId3"/>
          <a:srcRect l="-22754" t="0" r="-22754" b="0"/>
          <a:stretch/>
        </p:blipFill>
        <p:spPr>
          <a:xfrm>
            <a:off x="457200" y="2362320"/>
            <a:ext cx="4040280" cy="3763800"/>
          </a:xfrm>
          <a:prstGeom prst="rect">
            <a:avLst/>
          </a:prstGeom>
          <a:ln w="0">
            <a:noFill/>
          </a:ln>
        </p:spPr>
      </p:pic>
      <p:pic>
        <p:nvPicPr>
          <p:cNvPr id="102" name="Content Placeholder 9" descr="walter raleigh.jpg"/>
          <p:cNvPicPr/>
          <p:nvPr/>
        </p:nvPicPr>
        <p:blipFill>
          <a:blip r:embed="rId4"/>
          <a:srcRect l="-19623" t="0" r="-19623" b="0"/>
          <a:stretch/>
        </p:blipFill>
        <p:spPr>
          <a:xfrm>
            <a:off x="4645080" y="2362320"/>
            <a:ext cx="4041720" cy="37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Title 11" descr=""/>
          <p:cNvPicPr/>
          <p:nvPr/>
        </p:nvPicPr>
        <p:blipFill>
          <a:blip r:embed="rId2"/>
          <a:stretch/>
        </p:blipFill>
        <p:spPr>
          <a:xfrm>
            <a:off x="450720" y="60480"/>
            <a:ext cx="8242560" cy="32986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Spanish_Armada...defeat.jpg"/>
          <p:cNvPicPr/>
          <p:nvPr/>
        </p:nvPicPr>
        <p:blipFill>
          <a:blip r:embed="rId3"/>
          <a:stretch/>
        </p:blipFill>
        <p:spPr>
          <a:xfrm>
            <a:off x="168120" y="3048120"/>
            <a:ext cx="880776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Title 3" descr=""/>
          <p:cNvPicPr/>
          <p:nvPr/>
        </p:nvPicPr>
        <p:blipFill>
          <a:blip r:embed="rId2"/>
          <a:stretch/>
        </p:blipFill>
        <p:spPr>
          <a:xfrm>
            <a:off x="378000" y="-6480"/>
            <a:ext cx="8235720" cy="20671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432080" y="1848960"/>
            <a:ext cx="35208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7000" algn="ctr">
              <a:spcBef>
                <a:spcPts val="55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20e04"/>
                </a:solidFill>
                <a:latin typeface="Book Antiqua"/>
              </a:rPr>
              <a:t>Popular strong monarch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27000" algn="ctr">
              <a:spcBef>
                <a:spcPts val="55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20e04"/>
                </a:solidFill>
                <a:latin typeface="Book Antiqua"/>
              </a:rPr>
              <a:t>Golden Age of Literature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27000" algn="ctr">
              <a:spcBef>
                <a:spcPts val="55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20e04"/>
                </a:solidFill>
                <a:latin typeface="Book Antiqua"/>
              </a:rPr>
              <a:t>Sense of Nationalism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27000" algn="ctr">
              <a:spcBef>
                <a:spcPts val="55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20e04"/>
                </a:solidFill>
                <a:latin typeface="Book Antiqua"/>
              </a:rPr>
              <a:t>Religious unity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27000" algn="ctr">
              <a:spcBef>
                <a:spcPts val="55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20e04"/>
                </a:solidFill>
                <a:latin typeface="Book Antiqua"/>
              </a:rPr>
              <a:t>“</a:t>
            </a:r>
            <a:r>
              <a:rPr b="0" lang="en-US" sz="2200" spc="-1" strike="noStrike">
                <a:solidFill>
                  <a:srgbClr val="320e04"/>
                </a:solidFill>
                <a:latin typeface="Book Antiqua"/>
              </a:rPr>
              <a:t>Mistress of the seas”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2700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7" name="Picture 6" descr="Parliament2.jpg"/>
          <p:cNvPicPr/>
          <p:nvPr/>
        </p:nvPicPr>
        <p:blipFill>
          <a:blip r:embed="rId3"/>
          <a:stretch/>
        </p:blipFill>
        <p:spPr>
          <a:xfrm>
            <a:off x="1371600" y="4267080"/>
            <a:ext cx="2857680" cy="23241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shakespeare.jpg"/>
          <p:cNvPicPr/>
          <p:nvPr/>
        </p:nvPicPr>
        <p:blipFill>
          <a:blip r:embed="rId4"/>
          <a:stretch/>
        </p:blipFill>
        <p:spPr>
          <a:xfrm>
            <a:off x="4952880" y="2209680"/>
            <a:ext cx="38102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ushrooming population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nclosure movemen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Unemploymen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rimogenitur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Joint Stock Compan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y the 1600s the joint stock company was perfected, forerunner to modern capitalis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Title 1" descr=""/>
          <p:cNvPicPr/>
          <p:nvPr/>
        </p:nvPicPr>
        <p:blipFill>
          <a:blip r:embed="rId2"/>
          <a:stretch/>
        </p:blipFill>
        <p:spPr>
          <a:xfrm>
            <a:off x="1670040" y="530280"/>
            <a:ext cx="6261120" cy="10000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1606 Virginia Company received a charter from King James I to settle in New World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Searching for gold but cash crop turned out to be tobacco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4" name="Picture 2" descr="h:\My Pictures\tob.jpg"/>
          <p:cNvPicPr/>
          <p:nvPr/>
        </p:nvPicPr>
        <p:blipFill>
          <a:blip r:embed="rId3"/>
          <a:srcRect l="-17954" t="0" r="-17954" b="0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Early settlers worked little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Starving time”- disease, malnutrition, starvation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Captain John Smith saved colony by his “no work, no food” policy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Pocahontas saves John Smith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8" name="Picture 4" descr="j smith.jpg"/>
          <p:cNvPicPr/>
          <p:nvPr/>
        </p:nvPicPr>
        <p:blipFill>
          <a:blip r:embed="rId3"/>
          <a:stretch/>
        </p:blipFill>
        <p:spPr>
          <a:xfrm>
            <a:off x="5334120" y="2590920"/>
            <a:ext cx="259056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4T22:40:15Z</dcterms:created>
  <dc:creator>brissettematthew</dc:creator>
  <dc:description/>
  <dc:language>en-US</dc:language>
  <cp:lastModifiedBy>emily.johnson</cp:lastModifiedBy>
  <dcterms:modified xsi:type="dcterms:W3CDTF">2012-09-06T13:10:50Z</dcterms:modified>
  <cp:revision>24</cp:revision>
  <dc:subject/>
  <dc:title>The Planting of English America</dc:title>
</cp:coreProperties>
</file>